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5E04-F733-4E95-B510-642BAF55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5591-177C-4CA5-822F-1399F1E6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40A19-31FA-465D-819C-68752D14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B36A-4C34-4C63-9FB2-C28E1BBA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5A73-873D-4228-9C61-A0DAFEE6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EE7AC-54F5-4944-99AF-84E7275E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8BC1-84C4-4937-B0A3-4B4F668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D95F-3566-48D9-A722-A1C69C48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F504-ED65-46CA-AEEF-CC13A91A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3FC4-0462-4BE3-BE5C-816158DCD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2C25-9D5A-4865-B3B6-4896A2FF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FEBCE-F0FE-4E33-BAB2-8CFAE79A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3E13-0087-4289-A517-886B7ACF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F81D2-61E1-42E4-8A3B-EC712868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B031-552D-4729-94D3-046546C4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B050-510D-49E8-9E28-AB42B2B21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D65-9A16-41F8-BEBF-21520D06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E1791-0430-4C59-8CBF-EB1D499F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0064-52B7-4112-9DD1-D8B1DC0D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A5600-9F41-443A-A320-884174C3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4386-C322-41A7-9908-04C75C57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710A-95AD-4596-ADA9-CEC7EC2B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AC03-07E6-4401-B004-518B7DA7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7E308-FDE4-4026-B509-270A0A0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9882-E1EE-42AC-A244-21961FBEF5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5c8a"/>
                  </a:gs>
                  <a:gs pos="100000">
                    <a:srgbClr val="6666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3537c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959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5656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E6BA-AA5F-4955-AD40-5EB8F98D06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fe9"/>
                </a:solidFill>
                <a:latin typeface="Garamond"/>
              </a:rPr>
              <a:t>Introduction to Genetics</a:t>
            </a:r>
            <a:endParaRPr b="1" lang="en-US" sz="6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pter 11 - Bi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Use the last 2 digits the same way to find the mother’s genoty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Construct a Punnett square for the cross of these parents. Then, using the Punnett square, determine the probability that their child will have dimp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Determine the class average of the percent of children with dimp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omozygou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organisms that have 2 identical alleles for a particular trait (ie. TT or tt) – true-breed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eterozygo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organisms that have 2 different alleles for the same trait (ie. Tt) – hybri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heno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physical characteristic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ngs you can se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otyp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genetic make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ngs you cannot see – ie. genes (made of DNA) on chromosom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ndel performed an experiment to see if seed shape affects seed color – crossed plants and recorded the two tra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ne did not effect the othe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(independent assortment)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– genes for different traits  can segregate independently during formation of game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ummary of Mendel’s Principle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eritance of biological characteristics is determined by ge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two of more forms of the gene for a single trait exist, some forms may be dominant and others recess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most sexually reproducing organisms, each adult has two copies of each gene – one from each parent. These are segregated from each other when gametes are form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eles for different genes usually segregate independently of one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ses in which one allele is not completely dominant over another are calle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complete dominan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heterozygous phenotype is between the two homozygous phenotyp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dominanc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both alleles contribute to the phenotype. (ie. in chickens, the alleles for black feathers is codominant with the allele for white fea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Dominant &amp; Recessive Allele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3733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omplete dominance - neither allele is dominant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 x white = pin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ominance - both are expressed in some way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spcBef>
                <a:spcPts val="601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d x white = white/red spo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9880" y="1219320"/>
            <a:ext cx="5334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ny genes have more than two alleles, known 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ultiple allel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es not mean that an individual can have more than two alle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ans that more than two possible alleles exist in a population – ie. rabbit coat co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its controlled by two or more genes are said to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olygenic trai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“having many genes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ten show a wide range of phen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wide range of skin color in humans – more than 4 different genes control this tra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ndel’s principles of genetics requires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organism must inherit a single copy of every gene from each “parent”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en an organism produces its own gametes, those 2 sets of genes must be separated so that each gamete contains just one set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Body cell in an adult fruit fly has 8 chromosomes (4 from male parent, and 4 from female parent) – these two sets of chromosomes a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homologo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hromosomal Inheritanc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ell that contains both sets of homologous chromosomes is said to b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ploi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2 se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resented by the symbol 2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For the fruit fly the diploid number is 8 or 2N=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ploid cells contain two complete sets of chromosomes and two complete sets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ngle set of chromosomes – single set of genes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ploi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1 set or N=4 for a fruit f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Phases of Meiosi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ios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process of reduction division in which the number of chromosomes per cell is cut in half through the separation of homologous chromosomes in a diploid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ually involves 2 distinct divisions known as meiosis I and meiosis I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Gregor Mendel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822-1884 - The father of gene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ndel discovered the basic principles of heredity by breeding garden peas in carefully planned experiment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ue-breeding peas – self-pollin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ted to stop self pollination he cut away the pollen-bearing male parts and dusted pollen from another plant onto the flower – cross-poll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iosis I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fore meiosis I, each chromosome is replicate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lls start to divide – 4 chromosomes line up in the middle of the cell and 2 chromatids that make up each chromosome sepa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has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each chromosome pairs with its corresponding homologous chromosome to form a structure called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tr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chromatids in a tetr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 tetrads are formed, they exchange portions of their chromatids in a process call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rossing-o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iosis I cont…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ossing-over, results in the exchange of alleles between homologous chromosomes and produces new combos of alle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ologous chromosomes separate, and two new cells are fo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E PAGE 276 FIG. 11-15 (MEIOSI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iosis II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 cells produced by meiosis I now enter a second meiotic div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of the cell’s chromosomes has 2 chromati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taphase II -  chromosomes line up in the center of each c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aphase II – paired chromatids separa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See Page 278 Fig. 11-17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iosis produces four genetically different haploi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males, meiosis results in four equal-sized gametes called sper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females, only one large egg cell results from meiosis (the other 3 cells are polar bodies and are not involved in reproduction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itosis vs. Meiosi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tosis results in the production of two genetically identical diploi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ows an organism’s body to grow and replace ce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asexual reproduction, a new organism is produced by mitosis of the cell or cells of the parent organis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iosis produces four genetically different haploid ce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egins with a diploid cell but produces four haploid (N) cel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s how sexually reproducing organisms produce game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Gene Linkag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omas Hunt Morgan researched fruit flies which led to the principle of link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ach fruit fly has four pairs of chromosomes – each chromosome is a group of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is the chromosomes that assort independently, not the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wo genes are found on the same chromosome they are not linked forever  - crossing-over during meiosis sometimes separates 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ndel’s 7 Traits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– specific characteristic, such as seed color or plant height – makes one different from the o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ndel crossed plants with each of the 7 traits and studied their offspring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ybrid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 (parental) – original pair of pl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first filial) – offspr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0840" indent="-26568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ili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ili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re Latin for “son” and “daughter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ndel’s 7 Traits cont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 first concluded that biological inheritance is determined by factors that are passed from one generation to the n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actors that determine traits ar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gen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fferent forms of a gene are calle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e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 second conclusion: the principle of dominance (some alleles are dominant &amp; others are recessiv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Mendel’s 7 Traits cont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d the recessive alleles disappear, or were they still present in the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lant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 kinds of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produce an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rough self-pollin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cessive alleles disappeared in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reappeared in F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eles in 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Garamond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separated from each other during the formation of sex cells (aka gametes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en similar crosses were repeated, similar results were obtain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e. Crossed 2 plants that were hybrid for stem height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T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, about ¾ were tall and ¼ were shor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babil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– likelihood that a particular event will occ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can be used to predict the outcomes of genetic cros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Punnett Square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rt that shows all the possible combinations of alleles that can result from a genetic cro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d to show all the possible outcomes of a genetic cross and to determine the probability of a particular outco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724280" y="2133720"/>
            <a:ext cx="4038840" cy="318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638680" y="17524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971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191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819520"/>
            <a:ext cx="60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6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10280" y="41148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2819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oin Toss Lab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lease take out your hand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will use the remainder of the period to work on and complete this l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How are dimples inherited?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age 268 in Biology Text Boo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Write the last 4 digits of your telephone number. These 4 random digits represent the alleles of a gene that determines whether a person will have dimples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dd = allele for the dominant trait of dimples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 = allele for the recessive trait of n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mpl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First 2 digits represent a certain father’s genotype. Symbols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write his genotyp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3:27:32Z</dcterms:created>
  <dc:creator>Justin</dc:creator>
  <dc:description/>
  <dc:language>en-US</dc:language>
  <cp:lastModifiedBy>Justin</cp:lastModifiedBy>
  <dcterms:modified xsi:type="dcterms:W3CDTF">2008-04-22T23:38:24Z</dcterms:modified>
  <cp:revision>23</cp:revision>
  <dc:subject/>
  <dc:title>Introduction to Genetics</dc:title>
</cp:coreProperties>
</file>